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DBB0-2A22-48A7-A422-049C9F2F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7C31-28A2-4B44-A399-E7D71B49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CDFF-470F-40C3-98F4-EEE91CE49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A5EE-878F-489F-A0B5-ED476851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6928-D1AA-4BF5-8052-B6E9BA68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9B0C-4AE4-4946-B6C4-73C60198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693F-50CE-4D5F-82DC-6E7D0861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A1F0-ECA8-4061-87EB-73437D4F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01FD-46AC-4AF5-A569-3A0AD6E3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BECC-795B-49B3-A708-B154D4DF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E718-1EC5-40C9-8EB0-B06AD4F6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9000-8744-4EA6-BBAB-B4B990DC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1849-E473-4A3C-B43A-C5F935EB4BC5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knesset.gov.il/exhibits/EichmannCapture/images/EichC4-b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knesset.gov.il/exhibits/EichmannCapture/images/EichA6-b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knesset.gov.il/exhibits/EichmannCapture/images/EichA7-b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knesset.gov.il/exhibits/EichmannCapture/images/EichA2-b.jpg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knesset.gov.il/exhibits/EichmannCapture/images/EichA5-b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nesset.gov.il/exhibits/EichmannCapture/images/EichA8-b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284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Calibri"/>
                <a:cs typeface="Arial"/>
              </a:rPr>
              <a:t>הרצאה בסמינר "אבות ומייסדים"</a:t>
            </a:r>
            <a:br>
              <a:rPr sz="3600"/>
            </a:br>
            <a:r>
              <a:rPr b="0" lang="he-IL" sz="3600" spc="-1" strike="noStrike">
                <a:solidFill>
                  <a:srgbClr val="000000"/>
                </a:solidFill>
                <a:latin typeface="Calibri"/>
                <a:ea typeface="Arial"/>
              </a:rPr>
              <a:t>9.5.2014</a:t>
            </a:r>
            <a:r>
              <a:rPr b="0" lang="he-IL" sz="3600" spc="-1" strike="noStrike">
                <a:solidFill>
                  <a:srgbClr val="000000"/>
                </a:solidFill>
                <a:latin typeface="Calibri"/>
                <a:ea typeface="Arial"/>
              </a:rPr>
              <a:t>  ט' באייר תשע"ד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276640"/>
            <a:ext cx="9144000" cy="83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200" spc="-1" strike="noStrike">
                <a:solidFill>
                  <a:srgbClr val="404040"/>
                </a:solidFill>
                <a:latin typeface="Calibri"/>
              </a:rPr>
              <a:t>תפיסתו ומשפטו של אדולף אייכמן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76720" y="4365360"/>
            <a:ext cx="406728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  <a:cs typeface="Arial"/>
              </a:rPr>
              <a:t>איסר הראל – הלפרין</a:t>
            </a:r>
            <a:br>
              <a:rPr sz="2400"/>
            </a:br>
            <a:r>
              <a:rPr b="1" lang="he-IL" sz="2400" spc="-1" strike="noStrike">
                <a:solidFill>
                  <a:srgbClr val="000000"/>
                </a:solidFill>
                <a:latin typeface="Calibri"/>
                <a:cs typeface="Arial"/>
              </a:rPr>
              <a:t>הממונה על שירותי המודיעין</a:t>
            </a:r>
            <a:br>
              <a:rPr sz="2400"/>
            </a:br>
            <a:r>
              <a:rPr b="1" lang="he-IL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  <a:ea typeface="Arial"/>
              </a:rPr>
              <a:t>1912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  <a:ea typeface="Arial"/>
              </a:rPr>
              <a:t> –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  <a:ea typeface="Arial"/>
              </a:rPr>
              <a:t>18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  <a:ea typeface="Arial"/>
              </a:rPr>
              <a:t> בפברואר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  <a:ea typeface="Arial"/>
              </a:rPr>
              <a:t>2003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il_fi" descr="http://www.knesset.gov.il/mk/images/members/harel_isser.jpg"/>
          <p:cNvPicPr/>
          <p:nvPr/>
        </p:nvPicPr>
        <p:blipFill>
          <a:blip r:embed="rId1"/>
          <a:stretch/>
        </p:blipFill>
        <p:spPr>
          <a:xfrm>
            <a:off x="684360" y="189000"/>
            <a:ext cx="446400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3280" y="5229360"/>
            <a:ext cx="41403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  <a:cs typeface="Arial"/>
              </a:rPr>
              <a:t>קצין המשטרה </a:t>
            </a:r>
            <a:br>
              <a:rPr sz="2400"/>
            </a:br>
            <a:r>
              <a:rPr b="0" lang="he-IL" sz="2400" spc="-1" strike="noStrike">
                <a:solidFill>
                  <a:srgbClr val="000000"/>
                </a:solidFill>
                <a:latin typeface="Calibri"/>
                <a:cs typeface="Arial"/>
              </a:rPr>
              <a:t>אפרים הופשטטר - אלרו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tl00_ctl00_MainContent_MainContent_HalalImage" descr="http://www.izkor.gov.il/Data/korot/Image/077306.jpg"/>
          <p:cNvPicPr/>
          <p:nvPr/>
        </p:nvPicPr>
        <p:blipFill>
          <a:blip r:embed="rId1"/>
          <a:srcRect l="6400" t="0" r="0" b="0"/>
          <a:stretch/>
        </p:blipFill>
        <p:spPr>
          <a:xfrm>
            <a:off x="250920" y="260280"/>
            <a:ext cx="47275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  <a:cs typeface="Arial"/>
              </a:rPr>
              <a:t>צבי אהרונ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il_fi" descr="http://www.nrg.co.il/images/archive/300x225/1/436/628.jpg"/>
          <p:cNvPicPr/>
          <p:nvPr/>
        </p:nvPicPr>
        <p:blipFill>
          <a:blip r:embed="rId1"/>
          <a:stretch/>
        </p:blipFill>
        <p:spPr>
          <a:xfrm>
            <a:off x="1258920" y="549360"/>
            <a:ext cx="669780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תמונה 1" descr="http://www.knesset.gov.il/exhibits/EichmannCapture/images/EichC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392040"/>
            <a:ext cx="6985080" cy="5268960"/>
          </a:xfrm>
          <a:prstGeom prst="rect">
            <a:avLst/>
          </a:prstGeom>
          <a:ln w="0">
            <a:noFill/>
          </a:ln>
        </p:spPr>
      </p:pic>
      <p:sp>
        <p:nvSpPr>
          <p:cNvPr id="66" name="מלבן 2"/>
          <p:cNvSpPr/>
          <p:nvPr/>
        </p:nvSpPr>
        <p:spPr>
          <a:xfrm>
            <a:off x="0" y="5805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יומן כיס מקורי ששימש את צבי אהרוני במבצע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היומן כולל נתונים, חלקם מקודדי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l_fi" descr="http://www.sustainability.org.il/_/rsrc/1356548506025/home/public-policy-news/Abraham-Shalom/eichmann_mossad_08.jpg"/>
          <p:cNvPicPr/>
          <p:nvPr/>
        </p:nvPicPr>
        <p:blipFill>
          <a:blip r:embed="rId1"/>
          <a:srcRect l="44561" t="46342" r="3957" b="3760"/>
          <a:stretch/>
        </p:blipFill>
        <p:spPr>
          <a:xfrm>
            <a:off x="900000" y="115920"/>
            <a:ext cx="7417080" cy="5991120"/>
          </a:xfrm>
          <a:prstGeom prst="rect">
            <a:avLst/>
          </a:prstGeom>
          <a:ln w="0">
            <a:noFill/>
          </a:ln>
        </p:spPr>
      </p:pic>
      <p:sp>
        <p:nvSpPr>
          <p:cNvPr id="68" name="מלבן 4"/>
          <p:cNvSpPr/>
          <p:nvPr/>
        </p:nvSpPr>
        <p:spPr>
          <a:xfrm>
            <a:off x="-144360" y="6135840"/>
            <a:ext cx="93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הטנדר בו הסתתר אהרוני כדי לצלם את הבי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Calibri"/>
                <a:cs typeface="Arial"/>
              </a:rPr>
              <a:t>הבית ברחוב גריבלד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il_fi" descr="http://t1.gstatic.com/images?q=tbn:ANd9GcQI-qw4W_lsN3P7SDFCBZMvDMzxTxiRGdcG_lFc5E_MhLhDgynTQqaoc-GF"/>
          <p:cNvPicPr/>
          <p:nvPr/>
        </p:nvPicPr>
        <p:blipFill>
          <a:blip r:embed="rId1"/>
          <a:stretch/>
        </p:blipFill>
        <p:spPr>
          <a:xfrm>
            <a:off x="755640" y="907920"/>
            <a:ext cx="7777080" cy="58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l_fi" descr="http://malam.cet.ac.il/CETHandler.ashx?n=CetEntities.FileViewer&amp;i=7b6c26a9-ffd0-426d-b508-19d6c9d151f1&amp;id=18135"/>
          <p:cNvPicPr/>
          <p:nvPr/>
        </p:nvPicPr>
        <p:blipFill>
          <a:blip r:embed="rId1"/>
          <a:stretch/>
        </p:blipFill>
        <p:spPr>
          <a:xfrm>
            <a:off x="324000" y="1052640"/>
            <a:ext cx="8538840" cy="5329080"/>
          </a:xfrm>
          <a:prstGeom prst="rect">
            <a:avLst/>
          </a:prstGeom>
          <a:ln w="0">
            <a:noFill/>
          </a:ln>
        </p:spPr>
      </p:pic>
      <p:sp>
        <p:nvSpPr>
          <p:cNvPr id="72" name="כותרת 1"/>
          <p:cNvSpPr/>
          <p:nvPr/>
        </p:nvSpPr>
        <p:spPr>
          <a:xfrm>
            <a:off x="539640" y="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Calibri"/>
              </a:rPr>
              <a:t>הבית ברחוב גריבלד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l_fi" descr="http://www.sustainability.org.il/_/rsrc/1356548506025/home/public-policy-news/Abraham-Shalom/eichmann_mossad_08.jpg"/>
          <p:cNvPicPr/>
          <p:nvPr/>
        </p:nvPicPr>
        <p:blipFill>
          <a:blip r:embed="rId1"/>
          <a:srcRect l="832" t="0" r="0" b="56042"/>
          <a:stretch/>
        </p:blipFill>
        <p:spPr>
          <a:xfrm>
            <a:off x="69840" y="1341360"/>
            <a:ext cx="8966160" cy="3311640"/>
          </a:xfrm>
          <a:prstGeom prst="rect">
            <a:avLst/>
          </a:prstGeom>
          <a:ln w="0">
            <a:noFill/>
          </a:ln>
        </p:spPr>
      </p:pic>
      <p:sp>
        <p:nvSpPr>
          <p:cNvPr id="74" name="מלבן 4"/>
          <p:cNvSpPr/>
          <p:nvPr/>
        </p:nvSpPr>
        <p:spPr>
          <a:xfrm>
            <a:off x="-181080" y="5189400"/>
            <a:ext cx="93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ביתו של אייכמן בבואנוס איירס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כפי שצולם על ידי צבי אהרוני, מרץ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19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מלבן 2"/>
          <p:cNvSpPr/>
          <p:nvPr/>
        </p:nvSpPr>
        <p:spPr>
          <a:xfrm>
            <a:off x="-181080" y="5934240"/>
            <a:ext cx="93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פילם מקורי מונח במעטפה הנושא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את פרטי חנות הצילו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בה פותחו התמונו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תמונה 3" descr="http://www.knesset.gov.il/exhibits/EichmannCapture/images/EichA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333360"/>
            <a:ext cx="78357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תמונה 4" descr="http://www.knesset.gov.il/exhibits/EichmannCapture/images/EichA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33360"/>
            <a:ext cx="7493040" cy="5399280"/>
          </a:xfrm>
          <a:prstGeom prst="rect">
            <a:avLst/>
          </a:prstGeom>
          <a:ln w="0">
            <a:noFill/>
          </a:ln>
        </p:spPr>
      </p:pic>
      <p:sp>
        <p:nvSpPr>
          <p:cNvPr id="78" name="מלבן 5"/>
          <p:cNvSpPr/>
          <p:nvPr/>
        </p:nvSpPr>
        <p:spPr>
          <a:xfrm>
            <a:off x="0" y="59342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מצלמת "לייקה" מקורית שימשה את חוליית הלכיד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לביצוע צילומים חשאיים. ברקע, תיק הצילום הסמו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4292640"/>
            <a:ext cx="36716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  <a:cs typeface="Arial"/>
              </a:rPr>
              <a:t>אדולף אייכמן במדי אס.אס.</a:t>
            </a:r>
            <a:br>
              <a:rPr sz="2400"/>
            </a:br>
            <a:r>
              <a:rPr b="0" lang="he-IL" sz="2400" spc="-1" strike="noStrike">
                <a:solidFill>
                  <a:srgbClr val="000000"/>
                </a:solidFill>
                <a:latin typeface="Calibri"/>
                <a:ea typeface="Arial"/>
              </a:rPr>
              <a:t>19.3.1906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  <a:ea typeface="Arial"/>
              </a:rPr>
              <a:t> –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  <a:ea typeface="Arial"/>
              </a:rPr>
              <a:t>31.5.196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il_fi" descr="http://msc.wcdn.co.il/archive/601658-5.jpg"/>
          <p:cNvPicPr/>
          <p:nvPr/>
        </p:nvPicPr>
        <p:blipFill>
          <a:blip r:embed="rId1"/>
          <a:stretch/>
        </p:blipFill>
        <p:spPr>
          <a:xfrm>
            <a:off x="4211640" y="144360"/>
            <a:ext cx="43210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03280" y="1628640"/>
            <a:ext cx="396108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  <a:cs typeface="Arial"/>
              </a:rPr>
              <a:t>אייכמן כפי שצולם</a:t>
            </a:r>
            <a:br>
              <a:rPr sz="2400"/>
            </a:br>
            <a:r>
              <a:rPr b="0" lang="he-IL" sz="2400" spc="-1" strike="noStrike">
                <a:solidFill>
                  <a:srgbClr val="000000"/>
                </a:solidFill>
                <a:latin typeface="Calibri"/>
                <a:cs typeface="Arial"/>
              </a:rPr>
              <a:t>במצלמה נסתרת </a:t>
            </a:r>
            <a:br>
              <a:rPr sz="2400"/>
            </a:br>
            <a:r>
              <a:rPr b="0" lang="he-IL" sz="2400" spc="-1" strike="noStrike">
                <a:solidFill>
                  <a:srgbClr val="000000"/>
                </a:solidFill>
                <a:latin typeface="Calibri"/>
                <a:cs typeface="Arial"/>
              </a:rPr>
              <a:t>ע"י צבי אהרונ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il_fi" descr="http://www.haaretz.co.il/polopoly_fs/1.1683448.1334060512!/image/2848007035.jpg"/>
          <p:cNvPicPr/>
          <p:nvPr/>
        </p:nvPicPr>
        <p:blipFill>
          <a:blip r:embed="rId1"/>
          <a:srcRect l="58196" t="28258" r="13140" b="14420"/>
          <a:stretch/>
        </p:blipFill>
        <p:spPr>
          <a:xfrm>
            <a:off x="324000" y="189000"/>
            <a:ext cx="467964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l_fi" descr="http://www.yadvashem.org/yv/en/exhibitions/eichmann/images/operation_eichmann/locating/12.jpg"/>
          <p:cNvPicPr/>
          <p:nvPr/>
        </p:nvPicPr>
        <p:blipFill>
          <a:blip r:embed="rId1"/>
          <a:stretch/>
        </p:blipFill>
        <p:spPr>
          <a:xfrm>
            <a:off x="3924360" y="189000"/>
            <a:ext cx="5041800" cy="6607080"/>
          </a:xfrm>
          <a:prstGeom prst="rect">
            <a:avLst/>
          </a:prstGeom>
          <a:ln w="0">
            <a:noFill/>
          </a:ln>
        </p:spPr>
      </p:pic>
      <p:sp>
        <p:nvSpPr>
          <p:cNvPr id="82" name="כותרת 1"/>
          <p:cNvSpPr/>
          <p:nvPr/>
        </p:nvSpPr>
        <p:spPr>
          <a:xfrm>
            <a:off x="0" y="3213000"/>
            <a:ext cx="396072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אייכמן כפי שצולם</a:t>
            </a:r>
            <a:br>
              <a:rPr sz="2400"/>
            </a:b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במצלמה נסתרת </a:t>
            </a:r>
            <a:br>
              <a:rPr sz="2400"/>
            </a:b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ע"י צבי אהרונ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l_fi" descr="http://www.shabak.gov.il/SiteCollectionImages/%D7%9E%D7%95%D7%A8%D7%A9%D7%AA/%D7%9C%D7%9B%D7%99%D7%93%D7%AA%20%D7%90%D7%99%D7%99%D7%9B%D7%9E%D7%9F/%D7%AA%D7%9E%D7%95%D7%A0%D7%95%D7%AA/%D7%93%D7%A3-%D7%9E%D7%91%D7%A6%D7%A2.jpg"/>
          <p:cNvPicPr/>
          <p:nvPr/>
        </p:nvPicPr>
        <p:blipFill>
          <a:blip r:embed="rId1"/>
          <a:srcRect l="24764" t="42330" r="15771" b="8032"/>
          <a:stretch/>
        </p:blipFill>
        <p:spPr>
          <a:xfrm>
            <a:off x="108000" y="115920"/>
            <a:ext cx="5256000" cy="6551640"/>
          </a:xfrm>
          <a:prstGeom prst="rect">
            <a:avLst/>
          </a:prstGeom>
          <a:ln w="0">
            <a:noFill/>
          </a:ln>
        </p:spPr>
      </p:pic>
      <p:sp>
        <p:nvSpPr>
          <p:cNvPr id="84" name="כותרת 1"/>
          <p:cNvSpPr/>
          <p:nvPr/>
        </p:nvSpPr>
        <p:spPr>
          <a:xfrm>
            <a:off x="5076720" y="4508640"/>
            <a:ext cx="39592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אייכמן כפי שצולם</a:t>
            </a:r>
            <a:br>
              <a:rPr sz="2400"/>
            </a:b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במצלמה נסתרת </a:t>
            </a:r>
            <a:br>
              <a:rPr sz="2400"/>
            </a:b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ע"י צבי אהרונ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l_fi" descr="http://www.shabak.gov.il/SiteCollectionImages/%D7%9E%D7%95%D7%A8%D7%A9%D7%AA/%D7%9C%D7%9B%D7%99%D7%93%D7%AA%20%D7%90%D7%99%D7%99%D7%9B%D7%9E%D7%9F/%D7%AA%D7%9E%D7%95%D7%A0%D7%95%D7%AA/%D7%93%D7%A3-%D7%9E%D7%91%D7%A6%D7%A2.jpg"/>
          <p:cNvPicPr/>
          <p:nvPr/>
        </p:nvPicPr>
        <p:blipFill>
          <a:blip r:embed="rId1"/>
          <a:srcRect l="10608" t="5705" r="3032" b="58262"/>
          <a:stretch/>
        </p:blipFill>
        <p:spPr>
          <a:xfrm>
            <a:off x="250920" y="189000"/>
            <a:ext cx="86691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תמונה 1" descr="http://www.knesset.gov.il/exhibits/EichmannCapture/images/EichA2.jpg">
            <a:hlinkClick r:id="rId1"/>
          </p:cNvPr>
          <p:cNvPicPr/>
          <p:nvPr/>
        </p:nvPicPr>
        <p:blipFill>
          <a:blip r:embed="rId2"/>
          <a:srcRect l="0" t="0" r="0" b="51309"/>
          <a:stretch/>
        </p:blipFill>
        <p:spPr>
          <a:xfrm>
            <a:off x="2700360" y="3429000"/>
            <a:ext cx="6253200" cy="2736720"/>
          </a:xfrm>
          <a:prstGeom prst="rect">
            <a:avLst/>
          </a:prstGeom>
          <a:ln w="0">
            <a:noFill/>
          </a:ln>
        </p:spPr>
      </p:pic>
      <p:sp>
        <p:nvSpPr>
          <p:cNvPr id="87" name="מלבן 2"/>
          <p:cNvSpPr/>
          <p:nvPr/>
        </p:nvSpPr>
        <p:spPr>
          <a:xfrm>
            <a:off x="0" y="1484280"/>
            <a:ext cx="270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צילום הגשר ממנו בוצעו התצפיות והמעקב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אחר שגרת יומו של אייכמן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התמונה העליונה צולמה בשנת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1960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ע"י צבי אהרוני והתמונה התחתונה צולמה בשנת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ע"י בנו עמרם אהרונ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תמונה 3" descr="http://www.knesset.gov.il/exhibits/EichmannCapture/images/EichA2.jpg"/>
          <p:cNvPicPr/>
          <p:nvPr/>
        </p:nvPicPr>
        <p:blipFill>
          <a:blip r:embed="rId3"/>
          <a:srcRect l="0" t="51193" r="0" b="0"/>
          <a:stretch/>
        </p:blipFill>
        <p:spPr>
          <a:xfrm>
            <a:off x="2711520" y="549360"/>
            <a:ext cx="625320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תמונה 1" descr="http://www.knesset.gov.il/exhibits/EichmannCapture/images/EichB6.jpg"/>
          <p:cNvPicPr/>
          <p:nvPr/>
        </p:nvPicPr>
        <p:blipFill>
          <a:blip r:embed="rId1"/>
          <a:stretch/>
        </p:blipFill>
        <p:spPr>
          <a:xfrm>
            <a:off x="971640" y="333360"/>
            <a:ext cx="7272360" cy="5423040"/>
          </a:xfrm>
          <a:prstGeom prst="rect">
            <a:avLst/>
          </a:prstGeom>
          <a:ln w="0">
            <a:noFill/>
          </a:ln>
        </p:spPr>
      </p:pic>
      <p:sp>
        <p:nvSpPr>
          <p:cNvPr id="90" name="מלבן 3"/>
          <p:cNvSpPr/>
          <p:nvPr/>
        </p:nvSpPr>
        <p:spPr>
          <a:xfrm>
            <a:off x="-181080" y="5877000"/>
            <a:ext cx="93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מפה מקורית ששימשה את חוליית הלכידה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על גבי המפה מסומן הבית ברחוב גריבלדי – ביתו של אייכמ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מציין מיקום תוכן 4" descr="http://www.shabak.gov.il/SiteCollectionImages/%D7%9E%D7%95%D7%A8%D7%A9%D7%AA/%D7%9C%D7%9B%D7%99%D7%93%D7%AA%20%D7%90%D7%99%D7%99%D7%9B%D7%9E%D7%9F/%D7%AA%D7%9E%D7%95%D7%A0%D7%95%D7%AA/%D7%AA%D7%A8%D7%A9%D7%99%D7%9D-%D7%94%D7%90%D7%96%D7%95%D7%A8.jpg"/>
          <p:cNvPicPr/>
          <p:nvPr/>
        </p:nvPicPr>
        <p:blipFill>
          <a:blip r:embed="rId1"/>
          <a:srcRect l="0" t="0" r="0" b="15324"/>
          <a:stretch/>
        </p:blipFill>
        <p:spPr>
          <a:xfrm>
            <a:off x="4060800" y="260280"/>
            <a:ext cx="4859280" cy="6264360"/>
          </a:xfrm>
          <a:prstGeom prst="rect">
            <a:avLst/>
          </a:prstGeom>
          <a:ln w="0">
            <a:noFill/>
          </a:ln>
        </p:spPr>
      </p:pic>
      <p:sp>
        <p:nvSpPr>
          <p:cNvPr id="92" name="כותרת 1"/>
          <p:cNvSpPr/>
          <p:nvPr/>
        </p:nvSpPr>
        <p:spPr>
          <a:xfrm>
            <a:off x="108000" y="1844640"/>
            <a:ext cx="4248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"הבית ברחוב גריבלדי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תרשים של זירת החטיפה אשר הוכן על-ידי חברי החוליה המבצעי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תמונה 1" descr="http://www.knesset.gov.il/exhibits/EichmannCapture/images/EichE9.jpg"/>
          <p:cNvPicPr/>
          <p:nvPr/>
        </p:nvPicPr>
        <p:blipFill>
          <a:blip r:embed="rId1"/>
          <a:stretch/>
        </p:blipFill>
        <p:spPr>
          <a:xfrm>
            <a:off x="1042920" y="260280"/>
            <a:ext cx="7058160" cy="5316480"/>
          </a:xfrm>
          <a:prstGeom prst="rect">
            <a:avLst/>
          </a:prstGeom>
          <a:ln w="0">
            <a:noFill/>
          </a:ln>
        </p:spPr>
      </p:pic>
      <p:sp>
        <p:nvSpPr>
          <p:cNvPr id="94" name="מלבן 2"/>
          <p:cNvSpPr/>
          <p:nvPr/>
        </p:nvSpPr>
        <p:spPr>
          <a:xfrm>
            <a:off x="0" y="5765760"/>
            <a:ext cx="915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מעטפה מקורית ששימשה להעברת מסמכים מסווגים ארצ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באמצעות דואר דיפלומטי. מאי,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19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580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  <a:cs typeface="Arial"/>
              </a:rPr>
              <a:t>רפי איתן (אנטמן) – מפקד מבצע הלכיד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l_fi" descr="http://www.nrg.co.il/images/archive/300x225/972/720.jpg"/>
          <p:cNvPicPr/>
          <p:nvPr/>
        </p:nvPicPr>
        <p:blipFill>
          <a:blip r:embed="rId1"/>
          <a:stretch/>
        </p:blipFill>
        <p:spPr>
          <a:xfrm>
            <a:off x="971640" y="260280"/>
            <a:ext cx="720072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48690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200" spc="-1" strike="noStrike">
                <a:solidFill>
                  <a:srgbClr val="000000"/>
                </a:solidFill>
                <a:latin typeface="Calibri"/>
                <a:cs typeface="Arial"/>
              </a:rPr>
              <a:t>שלום וייס (דני) ז"ל </a:t>
            </a:r>
            <a:br>
              <a:rPr sz="2200"/>
            </a:br>
            <a:r>
              <a:rPr b="0" lang="he-IL" sz="2200" spc="-1" strike="noStrike">
                <a:solidFill>
                  <a:srgbClr val="000000"/>
                </a:solidFill>
                <a:latin typeface="Calibri"/>
                <a:ea typeface="Arial"/>
              </a:rPr>
              <a:t> אומן הזיופים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il_fi" descr="http://www.leobaeck.org.il/manager/FilesSrc/Galleries/ImgManager/ohel_avraham/shalom.jpg"/>
          <p:cNvPicPr/>
          <p:nvPr/>
        </p:nvPicPr>
        <p:blipFill>
          <a:blip r:embed="rId1"/>
          <a:stretch/>
        </p:blipFill>
        <p:spPr>
          <a:xfrm>
            <a:off x="3492360" y="260280"/>
            <a:ext cx="540072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Calibri"/>
                <a:cs typeface="Arial"/>
              </a:rPr>
              <a:t>וילה ואנזה – </a:t>
            </a:r>
            <a:r>
              <a:rPr b="0" lang="he-IL" sz="4000" spc="-1" strike="noStrike">
                <a:solidFill>
                  <a:srgbClr val="000000"/>
                </a:solidFill>
                <a:latin typeface="Calibri"/>
                <a:ea typeface="Arial"/>
              </a:rPr>
              <a:t>20.1.194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l_fi" descr="http://upload.wikimedia.org/wikipedia/commons/c/ca/Villa_Wannsee.jpg"/>
          <p:cNvPicPr/>
          <p:nvPr/>
        </p:nvPicPr>
        <p:blipFill>
          <a:blip r:embed="rId1"/>
          <a:stretch/>
        </p:blipFill>
        <p:spPr>
          <a:xfrm>
            <a:off x="826920" y="998640"/>
            <a:ext cx="727416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תמונה 1" descr="http://www.knesset.gov.il/exhibits/EichmannCapture/images/EichD1.jpg"/>
          <p:cNvPicPr/>
          <p:nvPr/>
        </p:nvPicPr>
        <p:blipFill>
          <a:blip r:embed="rId1"/>
          <a:srcRect l="0" t="28652" r="0" b="0"/>
          <a:stretch/>
        </p:blipFill>
        <p:spPr>
          <a:xfrm>
            <a:off x="250920" y="2421000"/>
            <a:ext cx="8642160" cy="1079280"/>
          </a:xfrm>
          <a:prstGeom prst="rect">
            <a:avLst/>
          </a:prstGeom>
          <a:ln w="0">
            <a:noFill/>
          </a:ln>
        </p:spPr>
      </p:pic>
      <p:sp>
        <p:nvSpPr>
          <p:cNvPr id="100" name="מלבן 2"/>
          <p:cNvSpPr/>
          <p:nvPr/>
        </p:nvSpPr>
        <p:spPr>
          <a:xfrm>
            <a:off x="2195640" y="3789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כלי כתיבה וזיוף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50-196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תמונה 1" descr="http://www.knesset.gov.il/exhibits/EichmannCapture/images/EichB5.jpg"/>
          <p:cNvPicPr/>
          <p:nvPr/>
        </p:nvPicPr>
        <p:blipFill>
          <a:blip r:embed="rId1"/>
          <a:stretch/>
        </p:blipFill>
        <p:spPr>
          <a:xfrm>
            <a:off x="179280" y="907920"/>
            <a:ext cx="5502240" cy="5113440"/>
          </a:xfrm>
          <a:prstGeom prst="rect">
            <a:avLst/>
          </a:prstGeom>
          <a:ln w="0">
            <a:noFill/>
          </a:ln>
        </p:spPr>
      </p:pic>
      <p:sp>
        <p:nvSpPr>
          <p:cNvPr id="102" name="מלבן 2"/>
          <p:cNvSpPr/>
          <p:nvPr/>
        </p:nvSpPr>
        <p:spPr>
          <a:xfrm>
            <a:off x="5651640" y="1268280"/>
            <a:ext cx="3457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מזוודה מקורית הכוללת ערכה להכנת לוחיות רישוי לרכבים השונים במבצ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400"/>
            </a:b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השיטה התבססה על יציקת גבס של המספר, והכנת לוחית מרדיד אלומיניו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400"/>
            </a:b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במבצע הוכנו מספר לוחיות רישוי לכל רכב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בכדי ליצור נתק בין מי שוכרי הרכבים, חוליית החטיפה ובתי המבטחים בהם הסתתרו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תמונה 1" descr="http://www.knesset.gov.il/exhibits/EichmannCapture/images/EichB9.jpg"/>
          <p:cNvPicPr/>
          <p:nvPr/>
        </p:nvPicPr>
        <p:blipFill>
          <a:blip r:embed="rId1"/>
          <a:stretch/>
        </p:blipFill>
        <p:spPr>
          <a:xfrm>
            <a:off x="297000" y="1052640"/>
            <a:ext cx="8523000" cy="3889080"/>
          </a:xfrm>
          <a:prstGeom prst="rect">
            <a:avLst/>
          </a:prstGeom>
          <a:ln w="0">
            <a:noFill/>
          </a:ln>
        </p:spPr>
      </p:pic>
      <p:sp>
        <p:nvSpPr>
          <p:cNvPr id="104" name="מלבן 2"/>
          <p:cNvSpPr/>
          <p:nvPr/>
        </p:nvSpPr>
        <p:spPr>
          <a:xfrm>
            <a:off x="0" y="5300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לוחית רישוי מקורית מהמבצע, כולל שיוך לאזור בואנוס איירס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בו התגורר אייכמן ארגנטינה,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19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תמונה 1" descr="http://www.knesset.gov.il/exhibits/EichmannCapture/images/EichD4.jpg"/>
          <p:cNvPicPr/>
          <p:nvPr/>
        </p:nvPicPr>
        <p:blipFill>
          <a:blip r:embed="rId1"/>
          <a:stretch/>
        </p:blipFill>
        <p:spPr>
          <a:xfrm>
            <a:off x="179280" y="509760"/>
            <a:ext cx="8705880" cy="4897440"/>
          </a:xfrm>
          <a:prstGeom prst="rect">
            <a:avLst/>
          </a:prstGeom>
          <a:ln w="0">
            <a:noFill/>
          </a:ln>
        </p:spPr>
      </p:pic>
      <p:sp>
        <p:nvSpPr>
          <p:cNvPr id="106" name="מלבן 2"/>
          <p:cNvSpPr/>
          <p:nvPr/>
        </p:nvSpPr>
        <p:spPr>
          <a:xfrm>
            <a:off x="0" y="5622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מכונה לשכפול מפתחות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נבנתה בשנות ה-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' על ידי משה תבור ז"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400"/>
            </a:b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כוללת יחידת חריטה ומנוע של מכונת תפירה מאותה תקופ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מלבן 1"/>
          <p:cNvSpPr/>
          <p:nvPr/>
        </p:nvSpPr>
        <p:spPr>
          <a:xfrm>
            <a:off x="0" y="1628640"/>
            <a:ext cx="34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תיקו של אייכמ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מתקופת הש"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שרות הידיעות בימ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טרום המדינה, לימים שב"כ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תמונה 3" descr="http://www.knesset.gov.il/exhibits/EichmannCapture/images/EichA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83000" y="333360"/>
            <a:ext cx="5481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8920" y="5013360"/>
            <a:ext cx="35290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200" spc="-1" strike="noStrike">
                <a:solidFill>
                  <a:srgbClr val="000000"/>
                </a:solidFill>
                <a:latin typeface="Calibri"/>
                <a:cs typeface="Arial"/>
              </a:rPr>
              <a:t>אייכמן בבגדי חקלאי בארגנטינה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l_fi" descr="http://www.yadvashem.org/yv/en/exhibitions/eichmann/images/operation_eichmann/argentina/04.jpg"/>
          <p:cNvPicPr/>
          <p:nvPr/>
        </p:nvPicPr>
        <p:blipFill>
          <a:blip r:embed="rId1"/>
          <a:srcRect l="0" t="3307" r="0" b="0"/>
          <a:stretch/>
        </p:blipFill>
        <p:spPr>
          <a:xfrm>
            <a:off x="3851280" y="122400"/>
            <a:ext cx="5041800" cy="66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9120" y="573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  <a:cs typeface="Arial"/>
              </a:rPr>
              <a:t>תעודת הזהות ע"ש ריקארדו קלמנ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il_fi" descr="http://www.yadvashem.org/yv/en/exhibitions/eichmann/images/operation_eichmann/argentina/03.jpg"/>
          <p:cNvPicPr/>
          <p:nvPr/>
        </p:nvPicPr>
        <p:blipFill>
          <a:blip r:embed="rId1"/>
          <a:stretch/>
        </p:blipFill>
        <p:spPr>
          <a:xfrm>
            <a:off x="684360" y="189000"/>
            <a:ext cx="80578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8000" y="836640"/>
            <a:ext cx="38876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200" spc="-1" strike="noStrike">
                <a:solidFill>
                  <a:srgbClr val="000000"/>
                </a:solidFill>
                <a:latin typeface="Calibri"/>
                <a:cs typeface="Arial"/>
              </a:rPr>
              <a:t>לותר הרמן – אבא של סילביה </a:t>
            </a:r>
            <a:br>
              <a:rPr sz="2200"/>
            </a:br>
            <a:r>
              <a:rPr b="0" lang="he-IL" sz="2200" spc="-1" strike="noStrike">
                <a:solidFill>
                  <a:srgbClr val="000000"/>
                </a:solidFill>
                <a:latin typeface="Calibri"/>
                <a:cs typeface="Arial"/>
              </a:rPr>
              <a:t>קצה החוט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il_fi" descr="http://collections.yadvashem.org/photosarchive/s637-469/18219971023020018512.jpg"/>
          <p:cNvPicPr/>
          <p:nvPr/>
        </p:nvPicPr>
        <p:blipFill>
          <a:blip r:embed="rId1"/>
          <a:srcRect l="0" t="9010" r="0" b="0"/>
          <a:stretch/>
        </p:blipFill>
        <p:spPr>
          <a:xfrm>
            <a:off x="108000" y="115920"/>
            <a:ext cx="4968720" cy="66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566064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  <a:cs typeface="Arial"/>
              </a:rPr>
              <a:t>פריץ באואר (משמאל)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  <a:ea typeface="Arial"/>
              </a:rPr>
              <a:t>16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  <a:ea typeface="Arial"/>
              </a:rPr>
              <a:t> ביולי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  <a:ea typeface="Arial"/>
              </a:rPr>
              <a:t>1903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  <a:ea typeface="Arial"/>
              </a:rPr>
              <a:t> -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  <a:ea typeface="Arial"/>
              </a:rPr>
              <a:t> ביולי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  <a:ea typeface="Arial"/>
              </a:rPr>
              <a:t>1968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2400"/>
            </a:br>
            <a:r>
              <a:rPr b="0" lang="he-IL" sz="2400" spc="-1" strike="noStrike">
                <a:solidFill>
                  <a:srgbClr val="000000"/>
                </a:solidFill>
                <a:latin typeface="Calibri"/>
                <a:cs typeface="Arial"/>
              </a:rPr>
              <a:t>התובע של מדינת הסה – מערב גרמני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il_fi" descr="http://www.infocenters.co.il/gfh/multimedia/GFH/0000057040/0000057040_1_web.jpg"/>
          <p:cNvPicPr/>
          <p:nvPr/>
        </p:nvPicPr>
        <p:blipFill>
          <a:blip r:embed="rId1"/>
          <a:srcRect l="0" t="2785" r="0" b="0"/>
          <a:stretch/>
        </p:blipFill>
        <p:spPr>
          <a:xfrm>
            <a:off x="250920" y="189000"/>
            <a:ext cx="858204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559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200" spc="-1" strike="noStrike">
                <a:solidFill>
                  <a:srgbClr val="000000"/>
                </a:solidFill>
                <a:latin typeface="Calibri"/>
                <a:cs typeface="Arial"/>
              </a:rPr>
              <a:t>תמונה של אייכמן אחרי המלחמה</a:t>
            </a:r>
            <a:br>
              <a:rPr sz="2200"/>
            </a:br>
            <a:r>
              <a:rPr b="0" lang="he-IL" sz="2200" spc="-1" strike="noStrike">
                <a:solidFill>
                  <a:srgbClr val="000000"/>
                </a:solidFill>
                <a:latin typeface="Calibri"/>
                <a:cs typeface="Arial"/>
              </a:rPr>
              <a:t>הובאה לארץ ע"י פריץ באואר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תמונה 2" descr="http://www.knesset.gov.il/exhibits/EichmannCapture/images/EichA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60280"/>
            <a:ext cx="590400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5T12:59:56Z</dcterms:created>
  <dc:creator>modi</dc:creator>
  <dc:description/>
  <dc:language>en-US</dc:language>
  <cp:lastModifiedBy>user</cp:lastModifiedBy>
  <dcterms:modified xsi:type="dcterms:W3CDTF">2013-07-05T04:45:56Z</dcterms:modified>
  <cp:revision>182</cp:revision>
  <dc:subject/>
  <dc:title>הרצאה לותיקי בני-ברק16.12 .13 –</dc:title>
</cp:coreProperties>
</file>